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04F-260C-41B4-8B7F-102C6214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B18-9EAE-455D-A21D-65D9CD10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673-3218-4D38-9850-D851F902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FAA-D376-4DDC-93A8-2E371D8E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4555-B1E8-4A50-A901-654F708B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01CF-F5FB-48CC-A213-B4545939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3A56-36F8-4FD8-A60F-B4EDDFE5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F749-AFD6-4F6A-BF15-2D61B6C8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74AA-B466-4234-80CB-59C0A42D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6E71-3131-4FC4-8AB1-FBE4CD32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60D2-41E9-487A-AD5C-EED8A895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53E-0518-4641-AC5E-82131BA7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FD8D-ED97-49F7-A85D-0D158C15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EF78-58EB-437F-9A08-4502449E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19B1-4208-4B8F-B9D5-7B9F309D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E25B-6B14-4913-B044-FB66C99A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BCDB-A52D-419B-95F1-560714C7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CC9-CB32-4888-8ADD-1B6E29DB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BE9-FADF-412E-A95F-90318D49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0AD-210C-4785-B6F7-B6FCD0B0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911-C4AB-4AA1-B3C7-B46BF3CC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149-F69F-43A8-ACE1-E9263907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64A-112E-4BF5-8CCC-DB61E580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EA0-0AAE-4DAB-872C-02575F8D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1321-6F35-44E8-AD99-BFDF571768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17F3-54E9-42F0-B239-3203732C0E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rinciples of Desig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s for working with the Elements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8098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SYMMETRICAL BAL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garden the right and left sides are not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t is visually 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large green tree and rocks (L) balance the larger rock formation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34040" y="1803240"/>
            <a:ext cx="309564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symmetrical Balance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14880" y="1600200"/>
            <a:ext cx="2971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PHA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 creates a center of attention o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al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well designed room h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al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yes are immediately drawn to that point when entering the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al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be worthy of att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al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dominate the room, but not over power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591160" y="2646360"/>
            <a:ext cx="2381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phasis cont…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5120" y="1930320"/>
            <a:ext cx="57150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phasis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mmon focal points in room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repla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twork arrang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tainment cent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HYTH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ythm smoothly leads the eyes from one area to another in a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ythm results when an element of design forms an organized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ythm is achieved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hythm -- REPET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5900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63600" y="3941640"/>
            <a:ext cx="3110040" cy="2189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hen an element o design---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line,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hythm -- GRAD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 created by a gradu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or decrease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506920" y="1600200"/>
            <a:ext cx="254808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73920" y="3941640"/>
            <a:ext cx="1414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hythm -- RADI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 formed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s flow from a central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5900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838160" y="3941640"/>
            <a:ext cx="19605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or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of parts of the sam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different objects in the sam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oportion is 2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proportions are LESS pleasing to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88040" y="1779480"/>
            <a:ext cx="11844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60920" y="3940200"/>
            <a:ext cx="2433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hythm --- OPPO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 is form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s meet to form right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5400" y="2298600"/>
            <a:ext cx="36478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por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	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en Rectangl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sides in a ration of 2:3.  short sides are 2/3 the length of the long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en Mean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division of a line midway between ½ and 1/3 of its length (wall arrangements, tying draperies, hanging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en Section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Division of a line so that the ratio of the smaller to the larger sections is equal to the ratio of the larger sections to the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2,3,5,8,13,21,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relative size of an object in relation to other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urnishings are scaled to the space they occupy, they are visually plea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24480" y="3940200"/>
            <a:ext cx="2709720" cy="2190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05520" y="1600200"/>
            <a:ext cx="15447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rnishings need to b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room, furnishings need to be in scale with one another.  Large sofa----large coffe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nishings need to be in scale to the people using them.  A large person---substantial siz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needs small table and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71800" y="3940200"/>
            <a:ext cx="3657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isual Weigh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ption of weight----that an object  weighs more or less than it really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holstered chair appears to weigh more than a wooden c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678640" y="1600200"/>
            <a:ext cx="220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1200" y="3940200"/>
            <a:ext cx="1376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L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 among parts of a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balance, there is a sense of equal weight on both sides of a center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l Bal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identical objects are arranged on both sides of a center point.  Also known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metr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l Balance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different but equivalent objects are arranged to the sides of a center point.  Also known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ymmetr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YMMETRICAL BAL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garden is symmetrically 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and Left sides of the garden are iden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22960" y="1600200"/>
            <a:ext cx="2916000" cy="2189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560" y="3941640"/>
            <a:ext cx="2892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ymmetrical balance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30440" y="1600200"/>
            <a:ext cx="4538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7:00:39Z</dcterms:created>
  <dc:creator>Charlotte-Mecklenburg School District</dc:creator>
  <dc:description/>
  <dc:language>en-US</dc:language>
  <cp:lastModifiedBy>s.brooks</cp:lastModifiedBy>
  <dcterms:modified xsi:type="dcterms:W3CDTF">2009-02-13T19:44:36Z</dcterms:modified>
  <cp:revision>20</cp:revision>
  <dc:subject/>
  <dc:title>Principles of Design</dc:title>
</cp:coreProperties>
</file>